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941-F21E-4906-97EB-C223EDC4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2FB-44BA-44EA-B076-257B70A8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B76-3F79-4337-AE90-9C9172B5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D1E-245D-4371-B4A4-B09EDF79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F40-5259-4D33-9A56-4129D98C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0BA-0D9C-4F48-B15B-0EB8F7E1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1D5-5DBF-4226-A17A-94F403E9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89F-9015-4F82-A64D-041FCBD9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14D-1128-4CEE-80E0-F57CF815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C14-2372-42A1-A3B5-1E425F8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F11-AA0A-4563-B621-D75A73A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091-CC46-4C54-B2F9-12373F9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8FAD-3068-4A2C-9731-9423D2573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Note de cad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responsabl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courrier avec amélioration de la qualité perçue par les clients et sécu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érimètr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siège social de la banque. Les agences ne font donc pas partie du périmètr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ombre d’acteurs, technicité et diversité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animation et gestion des plannings, des intervenants et des budge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expertise organisationnelle et techn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Yoan, chef de projet à 25 %, M. Pierre et M. Antoine à 50 % + un groupe de travail de secrétaires et quelques jours d’experts de février à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G + directeurs + chef de projet : réunions à chaque phas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Pierre et M. Antoine (organisateur) à 50 % de leur temps sur toute la duré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 de l’existant (février), organisation cible (mars) et conduite du changement (avril/jui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30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2:21Z</dcterms:modified>
  <cp:revision>104</cp:revision>
  <dc:subject/>
  <dc:title>Présentation PowerPoint</dc:title>
</cp:coreProperties>
</file>